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10058400" cy="77724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7A7CB-9907-419E-8B4C-3F43AC6353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371600" y="763560"/>
            <a:ext cx="50245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371600" y="763560"/>
            <a:ext cx="50245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371600" y="763560"/>
            <a:ext cx="50245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371600" y="763560"/>
            <a:ext cx="50245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371600" y="763560"/>
            <a:ext cx="50245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371600" y="763560"/>
            <a:ext cx="50245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371600" y="763560"/>
            <a:ext cx="50245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371600" y="763560"/>
            <a:ext cx="50245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371600" y="763560"/>
            <a:ext cx="5024520" cy="37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C5B1-F514-4A8D-A6BB-124EF455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2960" y="4543560"/>
            <a:ext cx="822312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29D4-8AE7-4846-AF1F-96BFEC19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40125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26400" y="1599840"/>
            <a:ext cx="40125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2960" y="4543560"/>
            <a:ext cx="40125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26400" y="4543560"/>
            <a:ext cx="40125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26CF-BFF5-4C83-B138-D1191DE4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26474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6474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3520" y="1599840"/>
            <a:ext cx="26474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2960" y="4543560"/>
            <a:ext cx="26474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3240" y="4543560"/>
            <a:ext cx="26474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3520" y="4543560"/>
            <a:ext cx="26474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D1C2-6F91-448E-A706-218CB2070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64B7-8D01-43DC-9422-AB785F41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B126-A293-4586-B8B7-4B757358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401256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26400" y="1599840"/>
            <a:ext cx="401256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349B-4D9D-446D-B068-FAFD183E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7479-1097-4C59-BA43-8C5CCBC1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2960" y="456840"/>
            <a:ext cx="82231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6C05-36C9-4695-A035-903CA1DA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40125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26400" y="1599840"/>
            <a:ext cx="401256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2960" y="4543560"/>
            <a:ext cx="40125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A54C-18AA-48CA-BA52-952099FF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401256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26400" y="1599840"/>
            <a:ext cx="40125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26400" y="4543560"/>
            <a:ext cx="40125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CAD6-2708-4D5D-A7EF-EA913F51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40125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26400" y="1599840"/>
            <a:ext cx="40125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2960" y="4543560"/>
            <a:ext cx="822312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E3A1-2E72-48D0-BF21-36A9196F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2362320" cy="7772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86cb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7315200"/>
            <a:ext cx="10058400" cy="457200"/>
          </a:xfrm>
          <a:prstGeom prst="rect">
            <a:avLst/>
          </a:prstGeom>
          <a:solidFill>
            <a:srgbClr val="4169e7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-2095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2800" indent="-2113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2800" indent="-2113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2800" indent="-2113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848720" y="0"/>
            <a:ext cx="2057400" cy="4856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87320" y="7416720"/>
            <a:ext cx="140184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360520" y="7405200"/>
            <a:ext cx="5176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770600" y="7394040"/>
            <a:ext cx="12142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2DFD5-99A6-468F-B2F8-45AF21AD1BB7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of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90720" y="1143000"/>
            <a:ext cx="8227800" cy="40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ools and Techniques for Reducing Bootup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5562720"/>
            <a:ext cx="853452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 Bir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ny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ony Corporation of Amer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14DF-6067-4869-9FCB-5CB30BE911B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25/2008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pti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siest time measurement e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 the following to /sbin/init or rc.local, or wherever you "finish" boo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Aft>
                <a:spcPts val="113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: Use of "echo" is wasteful, I'll get back to this late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ues produced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ll time since timekeeping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 spent in the idle process (process 0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 x86 starting val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kernel, nfs fs mount, and short RC 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time: 4.91 3.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 ARM starting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kernel, flash fs mount, short RC script, some ser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time: 5.42 1.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33560" y="2403360"/>
            <a:ext cx="6000840" cy="446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cho -n "uptime:" ; cat /proc/up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86 user-space init overview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X86, /sbin/init is a shell script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unts /proc and /s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unts root filesystem r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gures the loopback interface (ifconfig l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s /etc/rc.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ts syslogd, klogd, telnet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s ‘fre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s a sh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RM user-space init overview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SK has a “real” /sbin/init that processes /etc/init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 runs /etc/init.d/rcS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8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unts /pr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8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figured loopback interface (ifconfig 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8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unts /t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8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uches a bunch of files in /t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8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rts syslogd, klogd, inetd, thtt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-209520">
              <a:lnSpc>
                <a:spcPct val="8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 does a ‘sleep 1’ !!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8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s /dev/dsp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8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n inittab spawns a console get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grabseri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tility for watching serial console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run on host machine, not 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ptures serial output and echos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apply a timestamp to each line s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: grabserial –t –d /dev/ttyUSB0 –m “Starting kerne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grabserial Example Outpu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6040" y="1614600"/>
            <a:ext cx="9412200" cy="511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22.774152] ## Booting image at 10000000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22.776073]    Image Name:   Linux-2.6.27-00002-g1646475-di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22.780302]    Image Type:   ARM Linux Kernel Image (uncompress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22.784842]    Data Size:    1321228 Bytes =  1.3 M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22.787127]    Load Address: 10008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22.791150]    Entry Point:  10008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22.792627]    Verifying Checksum ... 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24.068948] 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24.069267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24.069367] Starting kernel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 0.001231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 0.001334] Uncompressing Linux.......................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....... done, booting the kern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 5.434655] serial console detected.  Disabling virtual termina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 5.437749] init started:  BusyBox v0.60.2 (2004.04.16-00:49+0000) mul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call bin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 5.607621] 3.17 0.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 5.787597] mount: Mounting /tmpfs on /tmp failed: Invalid arg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 6.947394] mknod: /dev/dsp: File ex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 7.072378] 4.64 0.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 8.26823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 8.268373] MontaVista(R) Linux(R) Professional Edition 3.1, Preview K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 8.291287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 8.291381] (none) login: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grabserial Not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esn’t put any instrumentation on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esn’t slow down target – only consumes host cpu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rnel queues up printk messages during very early 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easure time of kernel bootup events, you have to have kernel messages turned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8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 will talk about this l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t of a pain to inst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8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bserial is a python program.  It requires the python serial.py module, which is not shipped with python by de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rnel Measure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tk-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call_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rnel Function 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intk tim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to put timestamp on every prin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better with a good resolution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activate (use one of the following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 kernel with: CONFIG_PRINTK_TIMES=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“time=1” on kernel command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, to turn on dynamical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8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ho Y &gt;/sys/module/printk/parameters/tim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2600" y="501480"/>
            <a:ext cx="822636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intk Times Examp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599840"/>
            <a:ext cx="8226360" cy="62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it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you have a laptop (or are reading this presentation on a Linux desktop) try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76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76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cho Y &gt;/sys/module/printk/parameters/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76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plug in a USB stick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76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mes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see relative times (delta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76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‘show_delta’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76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ted in ‘scripts’ directory in Linux source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76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mesg | linux_src/scripts/show_delta /proc/self/fd/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-209520">
              <a:lnSpc>
                <a:spcPct val="76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OK – I should change show_delta to be a filter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2960" y="501480"/>
            <a:ext cx="822456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intk Times Sample Outpu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98200" y="1335240"/>
            <a:ext cx="8224920" cy="55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8400" y="1890720"/>
            <a:ext cx="8979120" cy="550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  0.000000] Linux version 2.6.23.17-alp_nl-g679161dd (tbird@crest) (gcc version 4.1.1)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  0.000000] CPU: ARM926EJ-S [41069263] revision 3 (ARMv5TEJ), cr=000531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  0.000000] Machine: TI-O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  0.000000] Memory policy: ECC disabled, Data cache write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  0.000000] On node 0 totalpages: 81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  0.000000]   DMA zone: 64 pages used for mem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  0.000000] OMAP GPIO hardware version 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  0.000000] MUX: initialized M7_1610_GPIO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  0.000000] MUX: Setting register M7_1610_GPIO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  0.000000]       FUNC_MUX_CTRL_10 (0xfffe1098) = 0x00000000 -&gt; 0x0000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  0.000000]       PULL_DWN_CTRL_4 (0xfffe10ac) = 0x00000000 -&gt; 0x0100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  0.000000] PID hash table entries: 128 (order: 7, 512 by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715.825741] Console: colour dummy device 80x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715.825999] Dentry cache hash table entries: 4096 (order: 2, 16384 by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715.826490] Inode-cache hash table entries: 2048 (order: 1, 8192 by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715.832736] Memory: 32MB = 32MB 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715.832832] Memory: 28052KB available (3852K code, 396K data, 124K in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715.833493] SLUB: Genslabs=22, HWalign=32, Order=0-1, MinObjects=4, CPUs=1, Nodes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715.833595] Calibrating delay loop (skipped)... 95.64 BogoMIPS pre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715.834196] Mount-cache hash table entries: 5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715.836419] CPU: Testing write buffer coherency: 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715.847232] NET: Registered protocol family 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715.860679] OMAP DMA hardware versio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715.860773] DMA capabilities: 000c0000:00000000:01ff:003f:007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715.868239] USB: hmc 16, usb2 alt 0 w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  715.904668] SCSI subsystem initial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2600" y="45684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2600" y="1599840"/>
            <a:ext cx="822636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l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boot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for ker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for user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results / 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ony Corporation of Amer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4837-367C-4973-8624-527CCEE6B6E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11/2008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2960" y="501480"/>
            <a:ext cx="822456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intk Times Notes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4560" cy="56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ARM, notice that timestamps are zero until clock is initi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X86, timestamps are available immediately since it uses TSC, which is a built-in counter on the 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many embedded platforms, you need to fix the clock handling to get good timestamp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ault printk_clock() returns jiff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8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has 4 ms or 10 ms resolution)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call sched clock(), but you need to make sure not to call it too ea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est kernel (2.6.27) uses cpu_clock(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older kernels, I have a patch for some ARM platfor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8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fe_to_call_sched_clock.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itcall_debu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ood portion of bootup time is spent in ‘initcall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’s a flag already built into the kernel to show initcall information during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boot command line, use: initcall_debug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booting, do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mesg -s 256000 | grep "initcall" | sed "s/\(.*\)after\(.*\)/\2 \1/g" | sort -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It’s a good idea to increase the printk log buffer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is by increasing LOGBUF_SHIFT fr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(16K) to 18 (256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itcall_debug Example Outpu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2600" y="4395600"/>
            <a:ext cx="8807400" cy="28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7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rout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75000"/>
              </a:lnSpc>
              <a:spcAft>
                <a:spcPts val="11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mouse_init - unused driver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75000"/>
              </a:lnSpc>
              <a:spcAft>
                <a:spcPts val="11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p_system_init - 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75000"/>
              </a:lnSpc>
              <a:spcAft>
                <a:spcPts val="11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ibios_assign_resources - 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75000"/>
              </a:lnSpc>
              <a:spcAft>
                <a:spcPts val="11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hci_hcd_init, uhci_hcd_init - part of USB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75000"/>
              </a:lnSpc>
              <a:spcAft>
                <a:spcPts val="11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al8250_init - serial driver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75000"/>
              </a:lnSpc>
              <a:spcAft>
                <a:spcPts val="11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ix_init – IDE disk driver i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75000"/>
              </a:lnSpc>
              <a:spcAft>
                <a:spcPts val="11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_auto_config - dhcp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1339920"/>
            <a:ext cx="8494560" cy="2954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 msecs [    2.237177] initcall acpi_button_init+0x0/0x51 returned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 msecs [    0.763503] initcall init_acpi_pm_clocksource+0x0/0x16c returned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msecs [    0.348241] initcall acpi_pci_link_init+0x0/0x43 returned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 msecs [    0.919004] initcall inet_init+0x0/0x1c7 returned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 msecs [    5.282722] initcall psmouse_init+0x0/0x5e returned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 msecs [    2.979825] initcall e100_init_module+0x0/0x4d returned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 msecs [    0.650325] initcall pnp_system_init+0x0/0xf returned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1 msecs [    0.872402] initcall pcibios_assign_resources+0x0/0x85 returned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7 msecs [    4.369187] initcall ehci_hcd_init+0x0/0x70 returned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5 msecs [    2.777161] initcall serial8250_init+0x0/0x100 returned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73 msecs [    5.098052] initcall uhci_hcd_init+0x0/0xc1 returned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30 msecs [    4.067279] initcall piix_init+0x0/0x27 returned 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90 msecs [    8.290606] initcall ip_auto_config+0x0/0xd70 returned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Aft>
                <a:spcPts val="11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rnel Function Trace (KFT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2600" y="1599840"/>
            <a:ext cx="888660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5000"/>
              </a:lnSpc>
              <a:spcAft>
                <a:spcPts val="11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ments every kernel function entry and ex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5000"/>
              </a:lnSpc>
              <a:spcAft>
                <a:spcPts val="11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filter by time duration of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5000"/>
              </a:lnSpc>
              <a:spcAft>
                <a:spcPts val="11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handy for finding boot latencies in early 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5000"/>
              </a:lnSpc>
              <a:spcAft>
                <a:spcPts val="11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fortunately, this is a patch that was never mainl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5000"/>
              </a:lnSpc>
              <a:spcAft>
                <a:spcPts val="11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http://elinux.org/Kernel_Function_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5000"/>
              </a:lnSpc>
              <a:spcAft>
                <a:spcPts val="11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ould like to integrate KFT functionality into ftrace, but haven’t had time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5000"/>
              </a:lnSpc>
              <a:spcAft>
                <a:spcPts val="11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been on my “to do” list for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Aft>
                <a:spcPts val="11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FT Trace Results Examp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3720" y="1484280"/>
            <a:ext cx="9415440" cy="2133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ry  Delta PID         Function                Called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0   0               start_kernel  L6+0x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4   8687   0                 setup_arch  start_kernel+0x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9    891   0               setup_memory  setup_arch+0x2a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53    872   0 register_bootmem_low_pages  setup_memory+0x8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54    871   0               free_bootmem  register_bootmem_low_pages+0x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54    871   0          free_bootmem_core  free_bootmem+0x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930   7432   0                paging_init  setup_arch+0x2a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935   7427   0            zone_sizes_init  paging_init+0x4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2920" y="4257720"/>
            <a:ext cx="9415440" cy="261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 ~/work/kft/kft/kd -n 30 kftboot-9.l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                Count Time     Average  Lo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 ----- -------- -------- 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_basic_setup                1  1159270  1159270      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_initcalls                  1  1159256  1159256      6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__delay                     156   619322     397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lay_tsc                   156   619322     3970   6193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__const_udelay              146   608427     4167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obe_hwif                    8   553972    69246      1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_probe                     31   553025    17839       6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de_delay_50ms              103   552588     5364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sapnp_init                   1   383138   383138      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Aft>
                <a:spcPts val="11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er-Space Measure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cess trace - Tim’s quick h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ux Trace Toolk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ootchar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 to display a nice diagram of processes in early b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s a daemon in early i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emon collects information via /proc, and puts it into files in /var/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 tool to post-process the collected information, and prepare a nic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G, SVG, or 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it at: http://www.bootchart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4287600" cy="22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ootchart Example Outpu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686560" y="185760"/>
            <a:ext cx="2079360" cy="71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ra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2600" y="1599840"/>
            <a:ext cx="8412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ce can be used to collect timing information for a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ce –tt 2&gt;/tmp/strace.log thttpd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use to see where time is being spent in application 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lso collect system call counts (-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ee time spent in each system call (-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for finding extraneous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Wasteful operations, like scanning invalid paths for files, opening a file multiple tim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race Example Outpu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1457280"/>
            <a:ext cx="8732880" cy="5321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186340 mprotect(0x4001f000, 20480, PROT_READ|PROT_WRITE)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200866 mprotect(0x4001f000, 20480, PROT_READ|PROT_EXEC)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221679 socketcall(0x1, 0xbe842c70) =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235626 fcntl64(3, F_SETFD, FD_CLOEXEC)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248718 socketcall(0x3, 0xbe842c70) = -1 EPROTOTYPE (Protocol wrong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sock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264434 close(3)               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286956 socketcall(0x1, 0xbe842c70) =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292816 fcntl64(3, F_SETFD, FD_CLOEXEC)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305603 socketcall(0x3, 0xbe842c70)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327575 brk(0)                  = 0x24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345397 brk(0x25000)            = 0x25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360290 brk(0)                  = 0x25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422485 open("/etc/thttpd/thttpd.conf", O_RDONLY) =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438049 fstat64(4, {st_mode=S_IFREG|0644, st_size=17592186044416, ...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474121 old_mmap(NULL, 4096, PROT_READ|PROT_WRITE, MAP_PRIVATE|MAP_ANO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US, -1, 0) = 0x40017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490203 read(4, "#-------------------------------"..., 4096) = 14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508544 read(4, "", 4096)      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530151 close(4)               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548675 munmap(0x40017000, 4096)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561645 open("/etc/localtime", O_RDONLY) = -1 ENOENT (No such file or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tor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585235 open("/etc/thttpd/throttle.conf", O_RDONLY) =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599182 gettimeofday({7, 603149}, NULL)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613983 fstat64(4, {st_mode=S_IFREG|0644, st_size=17592186044416, ...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637084 old_mmap(NULL, 4096, PROT_READ|PROT_WRITE, MAP_PRIVATE|MAP_ANO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US, -1, 0) = 0x40017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650604 read(4, "# thttpd 2.21b\n# Main throttle c"..., 4096) = 4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669586 read(4, "", 4096)      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691589 close(4)               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:00:07.708099 munmap(0x40017000, 4096)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2600" y="501480"/>
            <a:ext cx="822636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2600" y="1600200"/>
            <a:ext cx="8226360" cy="55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 electronics products require very fast boot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red cold boot time for a digital still camera is less than 1 sec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I mention they have crummy, slow processors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 must catch the baby smiling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697200" y="4357800"/>
            <a:ext cx="2149560" cy="27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race Miscellaneous Not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ce can follow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ce adds of overhead to the execution of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l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mings,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’t get counts for a program that doesn’t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omeone knows how to do this, let me kno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uldn’t figure out how to trace the whole system i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tried replacing /etc/init.d/rcS in /etc/inittab with “strace –f -tt 2&gt;/tmp/strace.log /etc/init.d/rcS 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idn’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 Tra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trace = Tim’s own quick-and-dirty tra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chart has 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8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much overhead for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8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/proc frequently during b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envisioned a kind of “Bootchart l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s printks to fork, exec and exit in the kernel -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5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s a script to process the dmesg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cess Trace Example Outpu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8640" y="1390680"/>
            <a:ext cx="8826480" cy="2571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37.162963] exec: 1 -&gt; /sbin/i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38.189819] fork: 1 -&gt; 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38.203155] exec: 15 -&gt; /etc/init.d/r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38.244598] fork: 15 -&gt; 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38.251708] exec: 16 -&gt; /bin/m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38.300262] exit: 16 - real 0.056 user 0.007 sys 0.039 nonrun 0.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38.302429] fork: 15 -&gt; 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38.309509] exec: 17 -&gt; /bin/c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38.331481] exit: 17 - real 0.029 user 0.007 sys 0.015 nonrun 0.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38.333312] fork: 15 -&gt;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38.340362] exec: 18 -&gt; /bin/m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38.464355] exit: 14 - real 1.481 user 0.000 sys 0.390 nonrun 1.0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38.464752] fork: 18 -&gt; 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   38.466979] exit: 18 - real 0.134 user 0.015 sys 0.007 nonrun 0.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8120" y="4591080"/>
            <a:ext cx="8826480" cy="24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Pid  Pid   Program                  Start    Duration Active   I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 ----- --------------------- -------- -------- -------- 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1            /sbin/init    0.000    0.000    0.000    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2               unknown    0.000    0.000    0.000    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 3              unknown*    0.000    0.000    0.000    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5    23            /bin/touch   38.644    0.106    0.014    0.0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5    31       /usr/sbin/inetd   39.216    0.122    0.046    0.0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5    18            /bin/mount   38.333    0.134    0.022    0.1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5    25            /bin/touch   38.775    0.228    0.116    0.1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14       [worker_thread]   36.983    1.482    0.390    1.0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15       /etc/init.d/rcS   38.190   33.367    0.116   33.2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9040" y="3949560"/>
            <a:ext cx="89326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1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3440" y="4238640"/>
            <a:ext cx="8864280" cy="3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spcBef>
                <a:spcPts val="12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 of: “linux_src/scripts/procgraph –s d /target/tmp/bootprocs.ms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 Trace Not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5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graph’ script is badly na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5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oesn’t produce a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5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intended to copy Arjan’s bootgraph program, but didn’t hav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5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finished sometime s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5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doesn’t replace bootchart, since it doesn’t show cpu or I/O ut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5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good enough to find som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5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unexpected fork and exe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nux Trace Toolki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nice tool for tracing “major” system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for showing process startup and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been out-of-mainline for many ye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http://ltt.polymtl.c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Aft>
                <a:spcPts val="11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ther Trace System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_boot (being worked on right n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process trace, but more compreh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71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es process schedules 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fastboot git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earch for "fastboot" subject lines on LK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T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kernel loadable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module insertion (user space must be 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easy to write a process trace tap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4200" y="2414520"/>
            <a:ext cx="8550000" cy="16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chniques for Reducing Bootup Ti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508040" y="4403520"/>
            <a:ext cx="70423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4200" y="2414520"/>
            <a:ext cx="8550000" cy="16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duction Techniques for the Kerne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508040" y="4403520"/>
            <a:ext cx="70423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duction Techniques for the Kerne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et cons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e unused drivers an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rred module init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ing probing de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system tri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nc init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iet conso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spends significant time outputing chars to serial port during b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eliminate with simple runtime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“quiet” to kernel comman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avings: 1.32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 savings: 0.45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till see all messages after booting with ‘dmesg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also affect VGA console, but I haven’t meas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verview of Boot Phas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3800" y="1388880"/>
            <a:ext cx="8223480" cy="58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mware (bootloader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rdware prob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rdware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rnel load and decom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rnel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e init (start_kernel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iver init (initcalls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-space 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sbin/i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C scri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phics start (First Impression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ication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cation load and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cation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iminate Unused Featur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he fastest code is the code you don’t run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kernel defconfigs include lots of features not needed in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try to include all features of a platform o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eliminate as much as possible from kernel using CONFI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helps two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the amount of initialization in the ker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the kernel size, which reduces the time it takes the bootloader to load the kernel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look at Linux-tiny pages for ideas of things you can safely eli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, use initcall_debug to see lots of modules you probably don’t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Unused Featu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found that CONFIG_HOTPLUG was turned on in the X86 defconf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ting my X86 machine with Linux v2.6.27, there are 809 calls to execve /sbin/hotplug, during b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eliminated these by turning CONFIG_HOTPLUG=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savings: 1.34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erred module initializ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rred module lo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 drivers as modules, and insmod after main b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rred init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cally link modules (CONFIG_FOO=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module init routine to be run later,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rigger for deferred initcalls, after main boot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ch is available to provide support for this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erred initcall Howto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modules that are not required for core functionality of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USB on a camera – uhci_hcd_usb, ehci_hcd_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module init routine decl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e_init(foo_init)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rred_module_init(foo_in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es marked like this are not initialized during kernel b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main init,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ho 1 &gt;/proc/deferred_init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rred initcalls are 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.init section memory is freed by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ing deferred_module_init() (USB modules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2960" y="1877760"/>
            <a:ext cx="82231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deferred_module_init()  on ehci_hcd_init and uhci_hcd_i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e_init(ehci_hcd_init)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rred_modle_init(echi_hcd_in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change for uhci_hcd_i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savings: 530 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ing deferred_module_init() (piix_init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2960" y="1773360"/>
            <a:ext cx="854208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deferred_module_init(piix_in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savings: 670 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savings from just these three deferred_module_init()s = 1.2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duce Prob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probe de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often reduce probe delay on known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IDE probe, especially for flash devices masquerading as IDE block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kes no sense to wait 50 milliseconds for the disk to respond on a solid state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probes for non-existent hardw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kernel command line options for drivers you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7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B, IDE, PCI,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operational parameters directly to driver, which causes driver to bypass prob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Documentation/kernel-parameters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ducing Probing Delay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t LPJ – next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delays for IP autoconf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ing device parameters from firm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t-lpj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to calibrate “loops_per_jiffy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be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pecify the value for lpj on kernel comman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bypasses the runtime 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time is saved depends on platform, CPU speed, HZ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 savings: 192 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avings: 19 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t-lpj howto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2600" y="1599840"/>
            <a:ext cx="875484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n A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arget (example on ARM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71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dmesg | grep -A 2 Bogo &gt;/tmp/boot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host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71000"/>
              </a:lnSpc>
              <a:spcAft>
                <a:spcPts val="113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71000"/>
              </a:lnSpc>
              <a:spcAft>
                <a:spcPts val="113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o kernel command line: "lpj=478208"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tim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4960" y="3373560"/>
            <a:ext cx="8853480" cy="1019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 linux/scripts/show_delta /target/osk/tmp/boot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715.833569 &lt; 715.833569 &gt;] Calibrating delay loop... 95.64 BogoMIPS (lpj=4782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716.025733 &lt; 0.192164 &gt;] Mount-cache hash table entries: 5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716.027787 &lt; 0.002054 &gt;] CPU: Testing write buffer coherency: 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0800" y="5792760"/>
            <a:ext cx="9237600" cy="746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715.833595 &lt; 715.833595 &gt;] Calibrating delay loop (skipped)... 95.64 BogoMIPS p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715.834196 &lt; 0.000601 &gt;] Mount-cache hash table entries: 5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715.836419 &lt; 0.002223 &gt;] CPU: Testing write buffer coherency: 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3640" y="3684600"/>
            <a:ext cx="1679400" cy="422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95480" y="5897520"/>
            <a:ext cx="1679760" cy="422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020080" y="3475080"/>
            <a:ext cx="1679400" cy="42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y hardwa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ld x86 desk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86 - Intel Celeron processor, running at 2 GH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8 meg. of RAM and a 40G IDE hard dr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ux 2.6.27-rc7 from kernel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ny distribution (CELinux) for x8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no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initcall and uptime timings are with NFS-root f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8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DE is present (probed and detected) but not mounte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ted at 4.91 seconds of uptime, at first shell prom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ducing Network Delay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44848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5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of finding a bogus delay and shortening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5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ic mainline code has to work with every conceivable crummy piece of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5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s are often too long for specific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5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ch on next page shows reduction in delay for IP autoconf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5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avings: 1.4 seco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6738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tch to Reduce Network Dela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4960" y="1889280"/>
            <a:ext cx="8853480" cy="5233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ff --git a/net/ipv4/ipconfig.c b/net/ipv4/ipconfig.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42065ff..e42d83f 1006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 a/net/ipv4/ipconfig.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++ b/net/ipv4/ipconfig.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@@ -86,8 +86,10 @@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 Define the friendly delay before and after opening net devices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#define CONF_PRE_OPEN          500     /* Before opening: 1/2 second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#define CONF_POST_OPEN         1       /* After opening: 1 second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/*#define CONF_PRE_OPEN                500     /* Before opening: 1/2 second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/*#define CONF_POST_OPEN               1       /* After opening: 1 second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#define CONF_PRE_OPEN          5       /* Before opening: 5 milli seconds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#define CONF_POST_OPEN         10      /* After opening: 10 milli seconds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 Define the timeout for waiting for a DHCP/BOOTP/RARP reply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CONF_OPEN_RETRIES      2       /* (Re)open devices twi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@@ -1292,7 +1294,7 @@ static int __init ip_auto_config(voi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-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 Give drivers a chance to settl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       ssleep(CONF_POST_OPE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       msleep(CONF_POST_OPE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If the config information is insufficient (e.g., our IP address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ssing Device Params from Firmwa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firmware initialize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sometimes do it faster because it doesn’t probe so m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firmware pass information to kernel, for kernel driver to avoid probing and initializing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y used this in “snapshot boo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very firmware and hardware-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count on mainlining you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cetree does this in a general way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80000"/>
              </a:lnSpc>
              <a:spcAft>
                <a:spcPts val="113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lesystem Trick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tion filesystem into read-only portion and read/write 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-only file systems mount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nt filesystem fas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Use UB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U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_JFFS2_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lesystem Mount Time Comparis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5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lide stolen shamelessly from Michael Opdenacker’s presentation comparing flash file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5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FFS2 mount of 8M filesystem partition is over 1 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5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BIFS mount of 8M partition is under .2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5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ashfs mount of 8M partition is under 50 milliseconds (it looks lik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lesystem Mount Time Comparis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slide stolen shamelessly from Michael Opdenacker’s presentation comparing flash file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FFS2 mount of 8M filesystem partition is over 1 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BIFS mount of 8M partition is under .2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ashfs mount of 8M partition is under 50 milliseconds (it looks lik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58400" cy="74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ync initcal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an Van de Ven wrote a system to allow aynchronous calling of init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initcalls in parall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ches were put into fastboot.git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fortunately, patch was rejected for 2.6.28 merge – Linus didn’t lik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 to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of story: Likely there will be some new async capabilities for module initialization sometime s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4200" y="2414520"/>
            <a:ext cx="8550000" cy="16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duction Techniqu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r User-spa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508040" y="4403520"/>
            <a:ext cx="70423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duction Techniques for User-spa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ing user-space i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ustom i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 RC 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builtins with busybox 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e In Place (X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e custom ini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use busybox ‘init’ program instead of full-blown ‘init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ly already doing this, but good thing to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xecutes /sbin/init by def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hange on kernel command l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8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his sometime:   “init=/bin/sh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have /sbin/init be a shel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gin prompt, no getty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better, make it a compile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nterpreter at boo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y Hardware (2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ld ARM Eval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K - OMAP 5912 at 192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2 meg. RAM and 32 meg. of NOR Fl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taVista distribution (3.1 preview kit) for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ux 2.6.23.17 (with patches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tests done with Linux 2.6.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ed at uptime: 5.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s after RC scripts, but before first lo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factor RC scrip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must use RC scripts, at least take out the ju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‘set –x’ to see all commands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conditional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e unneeded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echo of completion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sub-processes in parallel so that idle and busy portions of applications can inters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out for load order depend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e builtins with busybox ash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 versions of busybox did fork and exec for commands from shel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Echo “foo” – overhead 33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er busybox has support to execute echo, test and ‘[‘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mands are in the same bi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eed to instantiate another instance of busybox for these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trace will tell you if you are exec’ing ‘echo’ or ‘[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ix this, use latest busybox and set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ybox 1.10 has (in shell/Config.i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8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_ASH_BUILTIN_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212760">
              <a:lnSpc>
                <a:spcPct val="8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_ASH_BUILTIN_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ahea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system is doing other stuff, read blocks that will soon b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rjan’s testing, Readahead cut boot time from 7 seconds to 5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eadahead code is now included in moblin, I’m t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moblin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link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ood portion of application initialization time is spent resolving symbols to dynamic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reduce the time spent during dynamic l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relink on applications to reduce linki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ips reported 30% reduction in application load time, pe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IP = Execute In Pla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67384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XIP reduces bootload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XIP is to reduce application load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lash filesystem: AX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Jared Hulbert’s presentation and YouTube videos from 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ols.fedoraproject.org/OLS/Reprints-2008/hulbert-reprint.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youtube.com/watch?v=fu6Yj7iKE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youtube.com/watch?v=HUqFrA4FY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al Resul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final boot ti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-space init complete: .90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 final boot ti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-space init complete: 3.25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y recor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for kernel boot (to userspace) in 110 milliseconds on a 192 MHZ ARM 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second boot i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ing, of course, on your application initializati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able to boot embedded kernel in under 1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kes a lot of elbow grease, but it’s getting ea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2960" y="456840"/>
            <a:ext cx="822312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2231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an Van de Ven’s talk at L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PC: Booting Linux in 5 Seco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0">
              <a:lnSpc>
                <a:spcPct val="80000"/>
              </a:lnSpc>
              <a:spcAft>
                <a:spcPts val="575"/>
              </a:spcAft>
              <a:buNone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lwn.net/Articles/299483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astboot git tr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What's in fastboot.git for 2.6.28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0">
              <a:lnSpc>
                <a:spcPct val="80000"/>
              </a:lnSpc>
              <a:spcAft>
                <a:spcPts val="575"/>
              </a:spcAft>
              <a:buNone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lwn.net/Articles/299591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opher Hallinan's talk at MV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nux wiki – Boot Time development por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ff for this presen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0">
              <a:lnSpc>
                <a:spcPct val="80000"/>
              </a:lnSpc>
              <a:spcAft>
                <a:spcPts val="850"/>
              </a:spcAft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elinux.org/Tims_Fastboot_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4200" y="2414520"/>
            <a:ext cx="8550000" cy="16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trument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508040" y="4403520"/>
            <a:ext cx="704232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2600" y="501480"/>
            <a:ext cx="822636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Instrument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600200"/>
            <a:ext cx="8226360" cy="55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y important princi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0000"/>
              </a:lnSpc>
              <a:spcAft>
                <a:spcPts val="1400"/>
              </a:spcAft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0000"/>
              </a:lnSpc>
              <a:spcAft>
                <a:spcPts val="1400"/>
              </a:spcAft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0000"/>
              </a:lnSpc>
              <a:spcAft>
                <a:spcPts val="1400"/>
              </a:spcAft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0000"/>
              </a:lnSpc>
              <a:spcAft>
                <a:spcPts val="1400"/>
              </a:spcAft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 and fin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wor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roblems first, or you just end up wasting a lot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0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81160" y="2278080"/>
            <a:ext cx="8042040" cy="1020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25520" indent="-21600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DejaVu Sans"/>
              </a:rPr>
              <a:t>Premature optimization is the root of all ev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1600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- Donald Knu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2600" y="501480"/>
            <a:ext cx="822636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trument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2600" y="1600200"/>
            <a:ext cx="8226360" cy="55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-wi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time (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bs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rnel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ntk-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itcall_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 space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t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ss trace - Tim’s quick h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Aft>
                <a:spcPts val="1400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ux Trace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im Bird</cp:lastModifiedBy>
  <dcterms:modified xsi:type="dcterms:W3CDTF">2008-11-07T18:35:59Z</dcterms:modified>
  <cp:revision>19</cp:revision>
  <dc:subject/>
  <dc:title>Slide 1</dc:title>
</cp:coreProperties>
</file>